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D715-F6CB-4E4E-B854-C0534BD2BAB7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1.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ormance Classes: Revision plus Changes since CIS/2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8" idx="2"/>
            <a:endCxn id="99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2" name=""/>
          <p:cNvCxnSpPr>
            <a:stCxn id="98" idx="2"/>
            <a:endCxn id="100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4" name=""/>
            <p:cNvCxnSpPr>
              <a:stCxn id="100" idx="3"/>
              <a:endCxn id="9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2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2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5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8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riefly revise the topic of Conformance Classes (C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some CC related changes since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.e. from CIS/2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release to CIS/2 Publ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64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6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7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03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06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09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1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1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22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29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32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37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38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2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4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259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6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6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271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283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286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Change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CIS/2 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ole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role: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nformance Tes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also serve important practical rol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y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bing a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dicting what data exchange is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o Easy Solu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Cs always recognised as the single most difficult are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e scope of the LP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exchange between dissimilar ap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ady-made solution (STEP or IAI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industrial deploymen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orous pre-defined “building-block”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ed any conceivable CC combination to be creat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saged that “industry” would determine which CC combinations would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c ev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ut how to star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reviewers found the concept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ocumented, did not allow fully for the constraining effect of the WHERE r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quire some BASE-CCs to be used in comb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educing the effective number of BASE-CCs  (and thus their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incompleteness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Change from CIS/2 </a:t>
            </a:r>
            <a:r>
              <a:rPr b="1" lang="en-US" sz="4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has since been revi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number of entities has in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still more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/sub-type trees simplified (less 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implying many less </a:t>
            </a: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2800" spc="-1" strike="noStrike">
                <a:solidFill>
                  <a:srgbClr val="00ffff"/>
                </a:solidFill>
                <a:latin typeface="Times New Roman"/>
              </a:rPr>
              <a:t> BASE-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pproach involving less “permutations” require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 Chang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wer pre-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will be added a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e based-on the generic STEP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Cs defined 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le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n Excel spreadsheet to specify which entities are in each C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C Revis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Workshop #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from Day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y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mplet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CC Now?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s to the structure of LPM/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wer ANDOR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ssociative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act of WHERE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some cases where there is a choice over which entity to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judgement applied to decide wh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pragmatic evolutionary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r to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RESS centric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TEP toolkit to generate “long form” schema for each CC (and C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subset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focus on the relevant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ole in conformance tes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ac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ignificant repackaging of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offers significant benef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nderlying industrial/commercial issues rema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CC (and CC combinations) to imp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for compatible cho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rability of evolutionary convergence (plus innov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w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cally built round a base ent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ed by a reference number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eadsheet specifies which entities are included in which 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also defined by a “short form” sch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es which types, entities, functions and rules are included from the full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228960" y="2209320"/>
            <a:ext cx="937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PM5_CC12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ase_ent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typ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entit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func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ENCE FR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RUCTURAL_FRAME_SCHEMA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st of r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_SC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Short form defini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SCHEMA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ffff"/>
                </a:solidFill>
                <a:latin typeface="Courier New"/>
              </a:rPr>
              <a:t>LPM5_CC001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;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date_and_t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US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date_and_time);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Base Ent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Enti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alendar_date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coordinated_universal_time_offset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te, local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Typ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ahead_or_behind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day_in_month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hour_in_day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inute_in_hou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month_in_year_numbe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second_in_minute, year_numb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REFERENCE FROM</a:t>
            </a: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 STRUCTURAL_FRAME_SCHEMA (  </a:t>
            </a:r>
            <a:r>
              <a:rPr b="0" lang="en-GB" sz="1400" spc="-1" strike="noStrike">
                <a:solidFill>
                  <a:srgbClr val="ffff00"/>
                </a:solidFill>
                <a:latin typeface="Courier New"/>
              </a:rPr>
              <a:t>--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leap_year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ourier New"/>
              </a:rPr>
              <a:t>valid_calendar_date, valid_ti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ourier New"/>
              </a:rPr>
              <a:t>END_SCHEMA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ports entity definitions from one schema to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hort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in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           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Long For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comple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item explicitly imported into a schema will implicitly reference other items it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ood modelling practice to explicitly import all required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hema Interfac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first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(can have instances independent of being used by some other ent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ERENCE FROM schema (item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second-cl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em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have instances only if referenced by another instanc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may b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ties, types, functions,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finition of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743200" y="1979640"/>
            <a:ext cx="2208960" cy="3049200"/>
            <a:chOff x="2743200" y="1979640"/>
            <a:chExt cx="2208960" cy="3049200"/>
          </a:xfrm>
        </p:grpSpPr>
        <p:grpSp>
          <p:nvGrpSpPr>
            <p:cNvPr id="323" name=""/>
            <p:cNvGrpSpPr/>
            <p:nvPr/>
          </p:nvGrpSpPr>
          <p:grpSpPr>
            <a:xfrm>
              <a:off x="2743200" y="2971800"/>
              <a:ext cx="2208960" cy="2057040"/>
              <a:chOff x="2743200" y="2971800"/>
              <a:chExt cx="2208960" cy="2057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3809880" y="2971800"/>
                <a:ext cx="990720" cy="1676520"/>
                <a:chOff x="3809880" y="2971800"/>
                <a:chExt cx="990720" cy="16765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190760" y="29718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114800" y="30481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038480" y="31240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962160" y="3200400"/>
                  <a:ext cx="60984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886200" y="3276720"/>
                  <a:ext cx="609480" cy="1295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09880" y="3352680"/>
                  <a:ext cx="609480" cy="129564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2743200" y="3962520"/>
                <a:ext cx="914400" cy="0"/>
              </a:xfrm>
              <a:prstGeom prst="line">
                <a:avLst/>
              </a:prstGeom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4101120" y="4418640"/>
                <a:ext cx="850680" cy="61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265" y="13467"/>
                    </a:moveTo>
                    <a:arcTo wR="10800" hR="10800" stAng="857907" swAng="128452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265" y="13467"/>
                    </a:moveTo>
                    <a:arcTo wR="10800" hR="10800" stAng="857907" swAng="12845257"/>
                  </a:path>
                </a:pathLst>
              </a:custGeom>
              <a:noFill/>
              <a:ln w="7632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73788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0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743200" y="1979640"/>
            <a:ext cx="4331520" cy="3963600"/>
            <a:chOff x="2743200" y="1979640"/>
            <a:chExt cx="4331520" cy="3963600"/>
          </a:xfrm>
        </p:grpSpPr>
        <p:grpSp>
          <p:nvGrpSpPr>
            <p:cNvPr id="335" name=""/>
            <p:cNvGrpSpPr/>
            <p:nvPr/>
          </p:nvGrpSpPr>
          <p:grpSpPr>
            <a:xfrm>
              <a:off x="5943600" y="2971800"/>
              <a:ext cx="990360" cy="2590920"/>
              <a:chOff x="5943600" y="2971800"/>
              <a:chExt cx="990360" cy="259092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29718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160" y="30481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2200" y="31240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095880" y="3200400"/>
                <a:ext cx="60948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19560" y="3276720"/>
                <a:ext cx="609840" cy="2209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943600" y="3352680"/>
                <a:ext cx="609480" cy="2210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4952880" y="3962520"/>
              <a:ext cx="9144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5181480"/>
              <a:ext cx="312408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158520" y="5333040"/>
              <a:ext cx="850680" cy="61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265" y="13467"/>
                  </a:moveTo>
                  <a:arcTo wR="10800" hR="10800" stAng="857907" swAng="12845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265" y="13467"/>
                  </a:moveTo>
                  <a:arcTo wR="10800" hR="10800" stAng="857907" swAng="12845257"/>
                </a:path>
              </a:pathLst>
            </a:custGeom>
            <a:noFill/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7560" y="1979640"/>
              <a:ext cx="112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1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C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48040" y="1905120"/>
            <a:ext cx="2257920" cy="4495680"/>
            <a:chOff x="1148040" y="1905120"/>
            <a:chExt cx="2257920" cy="4495680"/>
          </a:xfrm>
        </p:grpSpPr>
        <p:sp>
          <p:nvSpPr>
            <p:cNvPr id="347" name=""/>
            <p:cNvSpPr/>
            <p:nvPr/>
          </p:nvSpPr>
          <p:spPr>
            <a:xfrm>
              <a:off x="1981080" y="3276720"/>
              <a:ext cx="609840" cy="3124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48040" y="1905120"/>
              <a:ext cx="225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UCTURAL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723120" y="5603760"/>
            <a:ext cx="114696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2920" y="4343400"/>
            <a:ext cx="1190520" cy="825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6880" y="2971800"/>
            <a:ext cx="1774800" cy="11912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001 to CC0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er CCs that are used only as building blocks in the definition of other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about 3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ata Management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0 + CC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Cs which, when combined with other Specific CCs, add-in data management con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pecific Class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C102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complete and coherent CCs which, alone or combined with other Specific CCs, provide a practically useful conformance un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 some 200 will be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Specific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ranslator is specified as being able to translate one, or more than one, Specific CC or Combination of Specific C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C123, CC124, CC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CC111+CC222), CC3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formance of an application’s import and export translators may diff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0492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9" name=""/>
            <p:cNvCxnSpPr>
              <a:stCxn id="80" idx="2"/>
              <a:endCxn id="81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2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80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5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6" name=""/>
            <p:cNvCxnSpPr>
              <a:stCxn id="83" idx="3"/>
              <a:endCxn id="80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7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22:44:42Z</dcterms:modified>
  <cp:revision>42</cp:revision>
  <dc:subject/>
  <dc:title>AISC CIS/2  Workshop #I</dc:title>
</cp:coreProperties>
</file>